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18E-7976-4736-A22D-A31555B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C9B-335B-4EF6-8587-D6B853D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63C-4916-468F-8400-0991C54F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550-AA17-4867-81EF-F64A1455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1B1-BE5A-4329-BDB4-50B38A2E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308-7D3D-4324-99C2-21D2F0E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A32-F197-464E-9141-05419CC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EEF-DF5F-4306-99BC-E6C3064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DCC-2B37-4FA8-8A6C-9EB08C3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C17-6F55-45EF-A61F-CA9B124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E6A-0719-4E5E-9CBF-97D00EB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06F-0777-4AB1-B08A-CAEEAE2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628-513C-4EEE-AB03-B973A5BCB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crew.com/womens_feature/NewArrivals/accessories/PRDOVR~57733/57733.jsp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jcrew.com/womens_feature/NewArrivals/accessories/PRDOVR~54265/54265.jsp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jcrew.com/womens_category/jewelry/bracelets/PRDOVR~67899/67899.jsp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hyperlink" Target="http://www.jcrew.com/womens_category/accessories/eyewear/PRDOVR~37881/37881.jsp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156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M &amp; M Ropa Catalog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y: Maggie Parisi &amp; Maddie Gr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fb050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1880" y="2971800"/>
            <a:ext cx="228600" cy="2286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57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5181480"/>
            <a:ext cx="228600" cy="2286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685800"/>
            <a:ext cx="228600" cy="2286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219320"/>
            <a:ext cx="228600" cy="22860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6095880"/>
            <a:ext cx="228600" cy="2286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600200"/>
            <a:ext cx="228600" cy="2286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800600"/>
            <a:ext cx="228600" cy="22860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80880"/>
            <a:ext cx="228600" cy="228600"/>
          </a:xfrm>
          <a:prstGeom prst="ellipse">
            <a:avLst/>
          </a:prstGeom>
          <a:solidFill>
            <a:srgbClr val="fb050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867280"/>
            <a:ext cx="228600" cy="22860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6386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0592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Letter Gothic"/>
              </a:rPr>
              <a:t>El Oto</a:t>
            </a:r>
            <a:r>
              <a:rPr b="0" lang="en-US" sz="5400" spc="-1" strike="noStrike">
                <a:solidFill>
                  <a:srgbClr val="ffffff"/>
                </a:solidFill>
                <a:latin typeface="Letter Gothic"/>
                <a:ea typeface="Times New Roman"/>
              </a:rPr>
              <a:t>ñ</a:t>
            </a:r>
            <a:r>
              <a:rPr b="0" lang="en-US" sz="5400" spc="-1" strike="noStrike">
                <a:solidFill>
                  <a:srgbClr val="ffffff"/>
                </a:solidFill>
                <a:latin typeface="Letter Gothic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Letter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857680" cy="404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6765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47920"/>
            <a:ext cx="228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Isabel lleva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chaqueta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 azul, lo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blue jeans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, y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bufanda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 azul y blan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2054160" cy="313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2720" y="4572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Carlos lleva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traje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negro, un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corbata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roja, y un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camisa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bl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adley Hand ITC"/>
              </a:rPr>
              <a:t>El Ver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832120" cy="3386160"/>
          </a:xfrm>
          <a:prstGeom prst="rect">
            <a:avLst/>
          </a:prstGeom>
          <a:ln w="31680">
            <a:solidFill>
              <a:srgbClr val="000000"/>
            </a:solidFill>
            <a:prstDash val="sysDot"/>
            <a:miter/>
          </a:ln>
        </p:spPr>
      </p:pic>
      <p:sp>
        <p:nvSpPr>
          <p:cNvPr id="66" name=""/>
          <p:cNvSpPr/>
          <p:nvPr/>
        </p:nvSpPr>
        <p:spPr>
          <a:xfrm>
            <a:off x="457200" y="5257800"/>
            <a:ext cx="259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dalina lleva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</a:rPr>
              <a:t>traje de b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  <a:ea typeface="Arial"/>
              </a:rPr>
              <a:t>ñ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ro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2427120" cy="344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72200" y="144792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speranza lleva lo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Bradley Hand ITC"/>
              </a:rPr>
              <a:t>pantalones cortos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 verde y rosada. Ella lleva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Bradley Hand ITC"/>
              </a:rPr>
              <a:t>camiseta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 ros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"/>
              </a:rPr>
              <a:t>El Invier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2743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Jos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lleva una camisa blanca, u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s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  <a:ea typeface="Arial"/>
              </a:rPr>
              <a:t>é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ter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gris, y negro, y lo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pantalones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gri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228760" cy="29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249876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29400" y="68580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"/>
              </a:rPr>
              <a:t>Carmen lleva una su</a:t>
            </a:r>
            <a:r>
              <a:rPr b="0" lang="en-US" sz="1800" spc="-1" strike="noStrike">
                <a:solidFill>
                  <a:srgbClr val="000000"/>
                </a:solidFill>
                <a:latin typeface="Goudy"/>
                <a:ea typeface="Arial"/>
              </a:rPr>
              <a:t>éter a rayas blanca y negra. Ella lleva pantalones negros y una pulsera 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51748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95480" y="5486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egail lleva una gorra verde y rosada y un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erde y rosado de l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Admiral Buttoned Legging"/>
          <p:cNvPicPr/>
          <p:nvPr/>
        </p:nvPicPr>
        <p:blipFill>
          <a:blip r:embed="rId3"/>
          <a:stretch/>
        </p:blipFill>
        <p:spPr>
          <a:xfrm>
            <a:off x="5334120" y="762120"/>
            <a:ext cx="358128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019920" y="403848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6483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a lleva una vestido a rayas azul y blanco. Ella lleva lo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y un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café tam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fd5ed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Accesorio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Fisherman cable h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Hearthstone glov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828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tripe hand-enameled bang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343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Feathered crystal necklace"/>
          <p:cNvPicPr/>
          <p:nvPr/>
        </p:nvPicPr>
        <p:blipFill>
          <a:blip r:embed="rId7"/>
          <a:stretch/>
        </p:blipFill>
        <p:spPr>
          <a:xfrm>
            <a:off x="251460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Cutler and Gross® sunglasses #074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43200" y="1905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6477120" y="1905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3352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Calcetin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4290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afas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uant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35053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Bo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095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orr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943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C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Buf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Pulser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800600" y="4038480"/>
            <a:ext cx="1278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3:55Z</dcterms:created>
  <dc:creator>parisimag</dc:creator>
  <dc:description/>
  <dc:language>en-US</dc:language>
  <cp:lastModifiedBy>parisimag</cp:lastModifiedBy>
  <dcterms:modified xsi:type="dcterms:W3CDTF">2011-12-14T20:17:12Z</dcterms:modified>
  <cp:revision>12</cp:revision>
  <dc:subject/>
  <dc:title>M &amp; M </dc:title>
</cp:coreProperties>
</file>